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6A7-5DB8-4D77-92B4-0AB0F78B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A5A-2A8F-42E8-A123-81867127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844-233D-40CC-88E5-68EF5641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0EB-3475-4BD7-89DA-3B1961FE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6C5A-0C81-4D9A-AB83-31440773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50E4-83FF-4AB8-AC84-452C4860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32DA-AE94-4823-9D9B-34337F0E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3D5-B57E-4984-B696-055FDA3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4E9-8A0C-4188-9A42-7BD572F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FBD2-4C0C-424B-8164-AC28BD6C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E938-5620-4C51-870B-13FACEC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3FF-59D0-4D42-B494-B6B9C982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C73-CC45-42F4-B724-B8263872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8D7D-59B5-45F8-B71F-01F829F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EECF-03E2-41FD-A453-ADEC4FA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4410-C64D-40D5-B0D7-F6504077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BDA1-A090-44E2-AFB0-95810170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BC0-C36E-4720-94DA-366C32EA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0DE-F18B-4567-BB00-F115FA8A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AAF-6527-4064-86EF-5C810F84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E01-01F1-481B-BC91-ECED4B8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BBB-0A5B-46DF-86AF-B6D0E5B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A6B-7FA0-4A48-8F89-F69DA99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4B4-2FA5-42F4-921B-F199D0C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4D6D-8AFB-4181-904D-063822CDDD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37E-B97A-421B-B25C-86014DFECB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ports Promo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al Adverti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dvertising with a goal of selling the item being prom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itutional advertis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with a goal of developing goodwill or a positiv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door advert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on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dium sign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les promo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hort term incentive to get consumers interested in buying a produ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 promotions are usually part of an advertisement or personal sales p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, rebates, samples, premiums, contests, and sweepsta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 Rel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activities that promote the image and communications a company has with its employees, customers, investors, and the public at lar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free mention of a product or company in th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nefit of free publicity is how the public may view what they see and hear in th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advantage is a company’s lack of control over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s Re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newsworthy article that provides basic information to answer questions about a subject, usch as who, what, where, when, and 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– a baseball player is traded, a press release is sent to the media from the baseball franch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rsonal S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direct communication by a salesperson to a potential costumer either in person or by teleph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fore Selling Proces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pecting – involves looking for potential customers or l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pproach – learning aout the products and the potential custom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elling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come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the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uggestion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ace9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ent Mark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ll activities associated with the sale, distribution, and promotion of a sports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http://hometownstation.com/node/images/stories/2012/olympics.gif"/>
          <p:cNvPicPr/>
          <p:nvPr/>
        </p:nvPicPr>
        <p:blipFill>
          <a:blip r:embed="rId1"/>
          <a:stretch/>
        </p:blipFill>
        <p:spPr>
          <a:xfrm>
            <a:off x="609480" y="4267080"/>
            <a:ext cx="3681360" cy="1876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tailgate365.com/wp-content/uploads/2012/08/sb-2013.jpg"/>
          <p:cNvPicPr/>
          <p:nvPr/>
        </p:nvPicPr>
        <p:blipFill>
          <a:blip r:embed="rId2"/>
          <a:stretch/>
        </p:blipFill>
        <p:spPr>
          <a:xfrm>
            <a:off x="5334120" y="3581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 in Sports Mark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sales, attract a target audience, and help create a positive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s should be viewed as a company’s clien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al M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y combination of advertising, sales promotion, publicity, and personal 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any must decide on its own promotional m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motional Budg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otional budget can be a determining factor in deciding the promotional m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ways to determine a promotional budget: Percentage of sales, Competitive parity, Objective-and-task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centage of S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s organizations may use a set percentage, or portion, or last year’s sales or the coming year’s to decide on the funds for the promotional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itive Pa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ny looks for industry trends on how much to sp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ty means having equality or simi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-and-Task Meth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ies set objectives for their promotion and decide what promotional activities are necessary to reach those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y paid promotion of an idea, good, or service by an identified spon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8:17:13Z</dcterms:created>
  <dc:creator>008736</dc:creator>
  <dc:description/>
  <dc:language>en-US</dc:language>
  <cp:lastModifiedBy>008736</cp:lastModifiedBy>
  <dcterms:modified xsi:type="dcterms:W3CDTF">2012-11-07T14:00:38Z</dcterms:modified>
  <cp:revision>12</cp:revision>
  <dc:subject/>
  <dc:title>Sports Promotion</dc:title>
</cp:coreProperties>
</file>